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4061-A9F7-48AD-BDC8-3E3DB49C88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C1EE-A3AD-4030-9FFE-03A51FC0C11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96E1-26F1-4E4B-9A60-E857F6D6E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B5A9-7E91-4EA7-9E01-C026BEEC3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DCCF-08DE-4B81-92E8-52D86801C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0EB7-0158-4DC1-ABE9-2230A4205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28714-C47F-4E0C-B3AC-A8E1427898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F7FA0-EF7C-45B9-9D7A-33D70E3992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093D3-2634-4C43-9BA9-04C5108C13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5E519-2728-4172-BE81-1076761382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66E35-84DF-456D-8C6D-5A374230A8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5460F-79FE-4B15-BB91-485528D8E7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6BC2C-F586-4B57-AE40-86FA94E4C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52E4-AD53-4115-B96B-F26C964DB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F58BE-A596-4A1C-AEE7-E91C01368B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B2E0C-B2DF-4838-82ED-55B1B0291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858AB-68AF-4D7D-A18E-76D765AFBC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91595-587A-4CEB-9BE1-5E3D3C95A8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622D6-48E3-4F10-88F4-11980B157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F800-2DF0-4E5D-AEB6-3F5EAD0D0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5125-28AC-41F6-B11C-EE0543DBC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4E08-2B9C-4F9D-8BBF-FDCC40EA2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13D1-6270-4123-B0A6-17A068839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8CCF-2166-4D39-8108-FED51B315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4660-EAC5-4096-B4A2-7B9171FAF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EE05-1C74-41C0-8DF4-96F18E9F1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B97CFFC-80C6-4227-B1D3-4506BFFD0B7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88B0C7D-9974-47BE-9FD6-E61482AF69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19920" y="204840"/>
            <a:ext cx="245268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5651640" y="306360"/>
            <a:ext cx="2874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6672430-BDBC-475E-AFEF-923B560EA9C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32775C1-D2C8-4541-B853-C97DF4177F8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9-01-24T10:29:08Z</dcterms:modified>
  <cp:revision>352</cp:revision>
  <dc:subject/>
  <dc:title>Exploratory Data Analysis</dc:title>
</cp:coreProperties>
</file>